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scaffolding questions to the participant acting as the one giving feedba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one-half mean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f you changed the whole? How would you show one-hal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view the charts in their pair grouping and then return to their seats, ready to discuss what was vie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ion question: What did you notice about the different work samples as you circul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95FC-EDB0-4062-AA04-B76DBA691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B7C8-F13A-41B2-92B8-005BEC266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CFCB-B4A6-4E48-9A90-F5EE548C5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F5D5-9595-4015-9CED-3B1181B40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EB52-6590-4FB9-88D8-ECF9C9DE0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7DA4-D280-465E-A077-BDFEEEA44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7966-A941-4BBC-B159-57FA2476E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DFF9-C11E-4463-A031-BA2BF57B5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5F76-BA12-484E-8753-5BB92E788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0DEE-4424-43D2-AF6D-A691FFA11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4A77-782D-40AD-84CC-FDD8DC283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C13C-46C2-446B-A4B3-399389268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56FA-5925-4DF7-9AA7-70ECB19C25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project.info/Cliparts_Free/Gegenstaende_Free/Clipart-Cartoon-Design-22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26B-9BF3-442E-AADB-381C8A5BC8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Minds-On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26D-A9A7-4ADA-A975-5B629637CC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C38A-B7CF-4329-A62A-A9DCA4A1E7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37160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What is the goal of these a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Distribute one slip of paper to each group m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Read the statement to yourself and try to determine what the goal may have b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Discuss with your tabl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135108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is a </a:t>
            </a:r>
            <a:r>
              <a:rPr b="0" i="1" lang="en-CA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60EE-4336-46CF-BD90-F80F54EE1A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00200"/>
            <a:ext cx="792468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In your journal, jot down your own definition of a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Compare to the definition in Growing Suc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b5ca9"/>
                </a:solidFill>
                <a:latin typeface="Arial"/>
              </a:rPr>
              <a:t>learning goals. </a:t>
            </a: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Brief statements that describe for a student what he or she should know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be able to do by the end of a period of instruction (e.g., a lesson, series of lessons, or subtas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The goals represent subsets or clusters of knowledge and skills that the student must master to successfully achieve the overall curriculum expec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: Play Race to Red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CF7B-3977-4027-AC1B-885A2B0117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676520"/>
            <a:ext cx="7848720" cy="37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In pairs, play all three versions of the game using dice and pattern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2b5c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What concepts/expectations may be addressed by playing this game;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2b5c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What the learning goal may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ole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5B88-73FC-4E2E-93C0-D4A6FCE40D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76960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5c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Based on the learning goal, what question might you ask to consolidate student lea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5c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What might a good answer look like (co-construct success criteri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..continued: Jacob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33399"/>
                </a:solidFill>
                <a:latin typeface="Arial"/>
              </a:rPr>
              <a:t>Jacob says that every multiple of 6 is a multiple of 3, but not every multiple of 3 is a multiple of 6.  What do you thin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olve the problem, create a learning goal and then identify what would make a goo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notating student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elect one student sample that you believe to be a great answer from Jacob’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Annotate the sample on chart paper explaining what components make it a great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Post chart paper on wall for gallery wa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You will be provided with samples of student work. Generate feedback for one response, based on your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What consolidation question(s) might you ask based on the learning goal and student work analysed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       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Individual journal refle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33399"/>
                </a:solidFill>
                <a:latin typeface="Arial"/>
              </a:rPr>
              <a:t>A good fisherman knows all the angles.</a:t>
            </a: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 ~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How does intentionality lead to GREAT answ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oftXP</cp:lastModifiedBy>
  <dcterms:modified xsi:type="dcterms:W3CDTF">2011-08-18T15:44:51Z</dcterms:modified>
  <cp:revision>18</cp:revision>
  <dc:subject/>
  <dc:title>&lt;Title&gt;</dc:title>
</cp:coreProperties>
</file>